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3A6-7D9D-4A0B-A353-2948F896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6FC-84DB-4715-B84A-F0C2076F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9AF-4FE9-4B66-B78C-092B3E61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0B7-512D-4750-A202-468B9BB4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75F-6B02-4A19-BCB9-BABBAB7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D41-A617-4E80-BF6D-177D0D2B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BAA-3455-43C0-9868-92F91512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97B-FB3C-4299-921D-8D0855CF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AC5-52FF-470C-BD23-8F29B8C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3D3-1AB0-4761-AA0C-BF0FF49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9D1-C7F2-460B-B59A-1B6BCC0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39A-D302-412D-B09A-46DD20B2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7C0A-D3F4-4745-BF2D-138990719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tilizing Socratic Semina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as a formative assess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in the UbD/DI Classroom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3366ff"/>
                </a:solidFill>
                <a:latin typeface="Kristen ITC"/>
              </a:rPr>
              <a:t>Focus Question: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How will we utilize Checking for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Understanding to incre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tudents’ comprehensio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81764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HOW of Socratic Sem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Opening…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Core…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Clo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2096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048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24480" y="220932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7200" y="4648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4648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6483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4080" y="30988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op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72120" y="31384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op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1440" y="4205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ersonal/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79160" y="4205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63880" y="4205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25280" y="3443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re clos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2840" y="5424480"/>
            <a:ext cx="21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identify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rich 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rom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424480"/>
            <a:ext cx="205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discuss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5440" y="5348160"/>
            <a:ext cx="28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personalize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Kristen ITC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e ideas inherent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WHY of Socratic Sem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wo most important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tellectu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Evidenced through critical thinking, analysis,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ynthesis,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oc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Evidenced through communication skills including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listening and 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ocratic Seminar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s an instrument to Check for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219320"/>
            <a:ext cx="1676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2193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752480"/>
            <a:ext cx="380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ng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ocused on “big ide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ause reader to ask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apture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rrative or inform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1752480"/>
            <a:ext cx="358164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o right or wrong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flect wonder and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quire students to think, search, evaluate, wonder, in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tural and 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7339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facilit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2670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monstrate “habits of mi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Model reflective and thoughtful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Have thorough understanding of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rust the process, allow group to come to their own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733920"/>
            <a:ext cx="2133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4267080"/>
            <a:ext cx="32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isten a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hare ideas, opinions,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earch for evidence to support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spect othe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derstanding By Desig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Planning With the End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tag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should students know, understand and be able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enduring understandings / essential questions will be explor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tage 2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How will we know when students have achieved the desired resul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will we accept as evidence of student proficien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Stag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knowledge and skills will students need to perform effectively and achieve</a:t>
            </a:r>
            <a:r>
              <a:rPr b="0" lang="en-US" sz="1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proficien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2057400"/>
            <a:ext cx="19814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3352680"/>
            <a:ext cx="19047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800600"/>
            <a:ext cx="17528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la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n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9761600">
            <a:off x="6705720" y="2361960"/>
            <a:ext cx="733320" cy="838080"/>
          </a:xfrm>
          <a:custGeom>
            <a:avLst/>
            <a:gdLst>
              <a:gd name="textAreaLeft" fmla="*/ 98280 w 733320"/>
              <a:gd name="textAreaRight" fmla="*/ 635040 w 7333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97200">
            <a:off x="7772040" y="3733560"/>
            <a:ext cx="733320" cy="990360"/>
          </a:xfrm>
          <a:custGeom>
            <a:avLst/>
            <a:gdLst>
              <a:gd name="textAreaLeft" fmla="*/ 98280 w 733320"/>
              <a:gd name="textAreaRight" fmla="*/ 635040 w 7333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Understanding by Design                    Differentiated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358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ndy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What and Why of teaching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-a curriculum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470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9144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ndy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Who, Where, and How of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Kristen ITC"/>
              </a:rPr>
              <a:t>- an instruction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752480"/>
            <a:ext cx="3124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dentify big ideas and core processes within content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etermine relative importance of content within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429000"/>
            <a:ext cx="2743200" cy="26668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orth be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familiar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4343400"/>
            <a:ext cx="2286000" cy="16765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mportan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know a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5029200"/>
            <a:ext cx="16002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End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752480"/>
            <a:ext cx="365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eachers can differen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514600"/>
            <a:ext cx="914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51460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200400"/>
            <a:ext cx="34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ased on the stude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733920"/>
            <a:ext cx="914400" cy="761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733920"/>
            <a:ext cx="914400" cy="761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733920"/>
            <a:ext cx="914400" cy="761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Jester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648320"/>
            <a:ext cx="16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roug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5029200"/>
            <a:ext cx="1371600" cy="1066680"/>
          </a:xfrm>
          <a:prstGeom prst="hexagon">
            <a:avLst>
              <a:gd name="adj" fmla="val 32146"/>
              <a:gd name="vf" fmla="val 11547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grou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029200"/>
            <a:ext cx="1285920" cy="1066680"/>
          </a:xfrm>
          <a:prstGeom prst="hexagon">
            <a:avLst>
              <a:gd name="adj" fmla="val 30138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Meaning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5029200"/>
            <a:ext cx="1523880" cy="1066680"/>
          </a:xfrm>
          <a:prstGeom prst="hexagon">
            <a:avLst>
              <a:gd name="adj" fmla="val 35715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On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assessm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egrating UbD and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2209680"/>
            <a:ext cx="733680" cy="137160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2666880"/>
            <a:ext cx="733680" cy="137160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038480"/>
            <a:ext cx="4952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ester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y close the gap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what students </a:t>
            </a: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already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what they </a:t>
            </a: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need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1295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When teachers continually atten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1" lang="en-US" sz="2400" spc="-1" strike="noStrike">
                <a:solidFill>
                  <a:srgbClr val="3366ff"/>
                </a:solidFill>
                <a:latin typeface="Kristen ITC"/>
              </a:rPr>
              <a:t>curriculum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  and   </a:t>
            </a:r>
            <a:r>
              <a:rPr b="1" lang="en-US" sz="2400" spc="-1" strike="noStrike">
                <a:solidFill>
                  <a:srgbClr val="99cc00"/>
                </a:solidFill>
                <a:latin typeface="Kristen ITC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ndy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Kristen ITC"/>
              </a:rPr>
              <a:t>Howev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5638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How do we know when they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69960" y="17128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971800"/>
            <a:ext cx="1447920" cy="17524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Gui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form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3048120"/>
            <a:ext cx="1371600" cy="16761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o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124080"/>
            <a:ext cx="2286000" cy="1524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cr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tudent awar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of how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self-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1447920"/>
            <a:ext cx="59436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Formative assessments allow teach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Checking for Understand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systematic approach to formative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124080"/>
            <a:ext cx="2286000" cy="1524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etermine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interven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eeded/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4" idx="2"/>
            <a:endCxn id="81" idx="0"/>
          </p:cNvCxnSpPr>
          <p:nvPr/>
        </p:nvCxnSpPr>
        <p:spPr>
          <a:xfrm flipH="1">
            <a:off x="1180440" y="2133720"/>
            <a:ext cx="3467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4" idx="2"/>
            <a:endCxn id="82" idx="0"/>
          </p:cNvCxnSpPr>
          <p:nvPr/>
        </p:nvCxnSpPr>
        <p:spPr>
          <a:xfrm>
            <a:off x="4648320" y="2133720"/>
            <a:ext cx="32011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4" idx="2"/>
            <a:endCxn id="86" idx="0"/>
          </p:cNvCxnSpPr>
          <p:nvPr/>
        </p:nvCxnSpPr>
        <p:spPr>
          <a:xfrm flipH="1">
            <a:off x="3200040" y="2133360"/>
            <a:ext cx="14486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4" idx="2"/>
            <a:endCxn id="83" idx="0"/>
          </p:cNvCxnSpPr>
          <p:nvPr/>
        </p:nvCxnSpPr>
        <p:spPr>
          <a:xfrm>
            <a:off x="4647960" y="2133360"/>
            <a:ext cx="11437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304920" y="5000760"/>
            <a:ext cx="8991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hecking fo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3880"/>
            <a:ext cx="1371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1760" y="152388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3240" y="2263680"/>
            <a:ext cx="3400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O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Projects &amp; perform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Common assessment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Collaborative sc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Kristen ITC"/>
              </a:rPr>
              <a:t>Ques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9810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dentif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and confr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misconce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895480"/>
            <a:ext cx="2438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etermine w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students know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what they need to k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419720"/>
            <a:ext cx="1752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Modif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vali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257800"/>
            <a:ext cx="2438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etermine 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interven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necessary / eff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ui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o I know what misconceptions or assumptions student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do I know what they underst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evidence will I accept as evidence of their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will I use their understanding to guide and plan future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Checking for Understanding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houl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lign with enduring understa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llow for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cus on closing th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Lead to precise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WHAT of Socratic Sem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n instructional method/assessment tool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ommo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sk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ading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ollaborative, intellectu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08:46Z</dcterms:created>
  <dc:creator>Morales</dc:creator>
  <dc:description/>
  <dc:language>en-US</dc:language>
  <cp:lastModifiedBy>North Rockland High School</cp:lastModifiedBy>
  <dcterms:modified xsi:type="dcterms:W3CDTF">2008-09-19T21:48:03Z</dcterms:modified>
  <cp:revision>17</cp:revision>
  <dc:subject/>
  <dc:title>Understanding By Design Planning With the End in Mind</dc:title>
</cp:coreProperties>
</file>